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9.pct" ContentType="image/x-pict"/>
  <Override PartName="/ppt/media/image12.pct" ContentType="image/x-pict"/>
  <Override PartName="/ppt/media/image7.pct" ContentType="image/x-pict"/>
  <Override PartName="/ppt/media/image6.pct" ContentType="image/x-pict"/>
  <Override PartName="/ppt/media/image11.jpeg" ContentType="image/jpeg"/>
  <Override PartName="/ppt/media/image17.pct" ContentType="image/x-pict"/>
  <Override PartName="/ppt/media/image16.pct" ContentType="image/x-pict"/>
  <Override PartName="/ppt/media/image3.jpeg" ContentType="image/jpeg"/>
  <Override PartName="/ppt/media/image15.pct" ContentType="image/x-pict"/>
  <Override PartName="/ppt/media/image14.pct" ContentType="image/x-pict"/>
  <Override PartName="/ppt/media/image18.pct" ContentType="image/x-pict"/>
  <Override PartName="/ppt/media/image1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8.png" ContentType="image/png"/>
  <Override PartName="/ppt/media/image1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004-0505-4817-A1D7-C81553F3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A44-06F3-44AB-A730-002BB440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F56-158E-451C-B5BA-F8AF2345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1AB-195A-4465-A8A1-5A0B083F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DEE-F8DD-45AB-946F-087926F9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281-F470-4E6D-8B7D-79587AB5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45A-79BD-45C2-B1AB-06738115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BBC-F11F-4590-A50A-F7510288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171-5F9B-481F-A1E9-7EA0A9DB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3D7-CE3F-4E76-A080-FB631286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16B-80D7-4308-9E6D-D78BF14C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F4E-8136-4E52-854F-7FC523A5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1520" y="165240"/>
            <a:ext cx="9194400" cy="6692760"/>
            <a:chOff x="101520" y="165240"/>
            <a:chExt cx="9194400" cy="6692760"/>
          </a:xfrm>
        </p:grpSpPr>
        <p:sp>
          <p:nvSpPr>
            <p:cNvPr id="3" name=""/>
            <p:cNvSpPr/>
            <p:nvPr/>
          </p:nvSpPr>
          <p:spPr>
            <a:xfrm>
              <a:off x="101520" y="165240"/>
              <a:ext cx="623160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73240" y="304920"/>
              <a:ext cx="632160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250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3120" y="1079640"/>
              <a:ext cx="845280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553080" y="6553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0c13"/>
                </a:solidFill>
                <a:latin typeface="Arial"/>
                <a:ea typeface="Arial"/>
              </a:rPr>
              <a:t>Copyright © Allyn &amp; Bacon 2009</a:t>
            </a:r>
            <a:endParaRPr b="0" lang="en-US" sz="1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014A-D442-488F-8A7C-225F90CB7312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9" name="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0c1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76440" y="3885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523b"/>
                </a:solidFill>
                <a:latin typeface="Arial"/>
              </a:rPr>
              <a:t>Sociology Now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34523b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 Edition (Brief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523b"/>
                </a:solidFill>
                <a:latin typeface="Arial"/>
              </a:rPr>
              <a:t>Kimmel/Aronson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24852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0c13"/>
                </a:solidFill>
                <a:latin typeface="Arial"/>
              </a:rPr>
              <a:t>*This multimedia product and its contents are protected under copyright law. The following are prohibited by law: any public performances or display, including transmission of any image over a network; preparation of any derivative work, including the extraction, in whole or in part, of any images; any rental, lease, or lending of the program.</a:t>
            </a:r>
            <a:endParaRPr b="0" lang="en-US" sz="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0048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c13"/>
                </a:solidFill>
                <a:latin typeface="Arial"/>
              </a:rPr>
              <a:t>Deviance and Crime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990720"/>
            <a:ext cx="685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70c13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4520" y="12193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c h a p t 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70760" y="2197080"/>
            <a:ext cx="1538280" cy="229860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5638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train Theory </a:t>
            </a: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(Merton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onformist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novator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itualist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bel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treatist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Broken Windows Theor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minor acts of deviance can spiral into severe crime and social deca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Zimbardo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477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inal Subcultures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youth gang member values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Cohen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Nonutilitarianism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Maliciousnes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Negativism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Short-run hedonism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Group autonom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lower-class subcultural norms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Miller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Troubl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Toughnes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Smartnes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Excitement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Fat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Autonom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019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Opportunity Theor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Cloward and Ohlin)  </a:t>
            </a:r>
            <a:endParaRPr b="1" lang="en-US" sz="1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rime arises from opportun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emphasis on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eviant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riminal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violence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treatist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onflict Theor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larger structural analysis of inequalities based on race, class or gender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Quinney) 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ypes of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85720" y="1409760"/>
            <a:ext cx="61722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violent crime and property crim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t Work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white collar, consumer, occupational, organizational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ybercrim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Hate Crim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motivated by offender bia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ace, ethnicity, religion, sexual orientation, or disabil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ypes of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69343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449360" y="1060560"/>
            <a:ext cx="62438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ypes of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45720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6743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ological explanation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ultural emphasis:  individual succes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large income differential – income gap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gun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49388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8840" y="1600200"/>
            <a:ext cx="6286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Guns 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Gender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Rac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Strain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Differential opportun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Labeling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Ag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Clas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at is Deviance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breaking a social rul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refusing to follow on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example:  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nudist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deviance by associat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Why do people break rules?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Why don’t most of us do it all the time?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What makes a deviant or criminal?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What can be done about it?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971800"/>
            <a:ext cx="4343400" cy="838080"/>
          </a:xfrm>
          <a:prstGeom prst="cube">
            <a:avLst>
              <a:gd name="adj" fmla="val 14583"/>
            </a:avLst>
          </a:prstGeom>
          <a:solidFill>
            <a:srgbClr val="cccc00">
              <a:alpha val="45000"/>
            </a:srgbClr>
          </a:solidFill>
          <a:ln w="3240">
            <a:solidFill>
              <a:srgbClr val="070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Crim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:  deviance “bad enough” to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warrant formal sanctions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0880" y="1157400"/>
            <a:ext cx="838224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624480" cy="4765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24280" y="1441440"/>
            <a:ext cx="36021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e Criminal Justice System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Polic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ourt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Punishment and Correction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risons  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Retribu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Deterre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Rehabilita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The Death Penal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52880" y="327672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e Criminal Justice System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3276720" cy="662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04920" y="1571760"/>
            <a:ext cx="3522600" cy="3136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809880" y="1569960"/>
            <a:ext cx="3537000" cy="4068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248520" y="1752480"/>
            <a:ext cx="25984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e Criminal Justice System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962520" cy="64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35400" y="1905120"/>
            <a:ext cx="4603680" cy="3608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04920" y="4727520"/>
            <a:ext cx="32763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Globalization and Crime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historical and contempora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ot just the Internet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Operations in every arena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You are most likely to be the victim of a crime locall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Deviance and Crime in the 21</a:t>
            </a:r>
            <a:r>
              <a:rPr b="1" lang="en-US" sz="2800" spc="-1" strike="noStrike" baseline="30000">
                <a:solidFill>
                  <a:srgbClr val="070c13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 Centur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Globalization and Crime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679752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formity and Social Contro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Folkway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ore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Taboo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tigma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ttribute “taints or discounts” a person/group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will “spoil” your identit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trategies to neutralize stigma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Goffman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Minstrelizat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Normificat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Militant chauvinism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formity and Social Contro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99840" y="137160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Deviant subculture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evolve within a dominant cul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loose association or organiz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example: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youth gang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dentity/ condition/activity mus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e </a:t>
            </a:r>
            <a:r>
              <a:rPr b="0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punished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(but not too much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have </a:t>
            </a:r>
            <a:r>
              <a:rPr b="0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participants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(but not too many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e </a:t>
            </a:r>
            <a:r>
              <a:rPr b="0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(but not too complex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Youth Gangs as Deviant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Youth Gangs Toda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Social Coherenc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deviance is useful to society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(Durkheim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It affirms cultural norms and valu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It clarifies moral boundari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It heightens group solidar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It encourages social chang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Social Coherenc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6400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Explaining Devianc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ifferential Association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Sutherland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ssociate with people who are deviant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rewarded for deviant behavior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ontrol Theor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Hirschi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ecisions through “cost-benefit analysis”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etermine punishment/reward/risk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ocial Controls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Reckless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outer control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inner control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53308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6eb2"/>
                </a:solidFill>
                <a:latin typeface="Arial"/>
              </a:rPr>
              <a:t>Attachment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6eb2"/>
                </a:solidFill>
                <a:latin typeface="Arial"/>
              </a:rPr>
              <a:t>Commitment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6eb2"/>
                </a:solidFill>
                <a:latin typeface="Arial"/>
              </a:rPr>
              <a:t>Involvement 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6eb2"/>
                </a:solidFill>
                <a:latin typeface="Arial"/>
              </a:rPr>
              <a:t>Belief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541008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500"/>
                </a:lnTo>
                <a:cubicBezTo>
                  <a:pt x="10800" y="5400"/>
                  <a:pt x="5400" y="6300"/>
                  <a:pt x="0" y="6300"/>
                </a:cubicBezTo>
                <a:cubicBezTo>
                  <a:pt x="5400" y="6300"/>
                  <a:pt x="10800" y="7200"/>
                  <a:pt x="10800" y="81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46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Social Coherenc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Labeling Theory 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Powerful determine what is devian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rimary devia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econdary devia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tertiary devia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Social Coherenc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Deviance and Inequality  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ose who have power: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rules are “natural” and “good”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internalized by individual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masks political agenda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justification of inequalities -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labeling actors and acts as devian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gender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exual orientat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race/ethnicit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ocial clas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3352320"/>
            <a:ext cx="5867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ad in and of themselves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ad because they are prohibited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752480"/>
            <a:ext cx="5105520" cy="1295640"/>
          </a:xfrm>
          <a:prstGeom prst="cube">
            <a:avLst>
              <a:gd name="adj" fmla="val 14583"/>
            </a:avLst>
          </a:prstGeom>
          <a:solidFill>
            <a:srgbClr val="cccc00">
              <a:alpha val="45000"/>
            </a:srgbClr>
          </a:solidFill>
          <a:ln w="3240">
            <a:solidFill>
              <a:srgbClr val="070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Crime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:  any act that violates a </a:t>
            </a:r>
            <a:endParaRPr b="0" lang="en-US" sz="2000" spc="-1" strike="noStrike">
              <a:solidFill>
                <a:srgbClr val="446eb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ormal normative code </a:t>
            </a:r>
            <a:endParaRPr b="0" lang="en-US" sz="2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3:21:37Z</dcterms:created>
  <dc:creator/>
  <dc:description/>
  <cp:keywords/>
  <dc:language>en-US</dc:language>
  <cp:lastModifiedBy>Pearson Inc.</cp:lastModifiedBy>
  <cp:lastPrinted>2009-04-22T19:24:48Z</cp:lastPrinted>
  <dcterms:modified xsi:type="dcterms:W3CDTF">2008-07-15T20:12:39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